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246-FE1B-4896-A7A7-7D116208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F7-FC2A-4293-BE20-698DDE10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A00-C55E-4B02-8577-51D15A63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02F-543C-4B89-8614-1B054046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D965-E751-4466-A8B2-D120597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8F6-BC68-4AF4-AF24-034D930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6AC-524D-4681-83E8-E705C09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B5A-BCD5-479E-AF36-AE1A1EF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D3C-C5BD-4F91-85F9-F1D9A282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B8C-103A-4A50-8F50-5E3B4FDF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B0D-F268-4769-878D-6F4A49E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D5B-25AF-425D-BEF8-85307A2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6A26-8619-4F18-8D3F-9F31A56C8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6094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ryl’s SAPS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40384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joys of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800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Rational Function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816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380880"/>
            <a:ext cx="6481800" cy="28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over the topics of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9718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Multiplication and Division of rational express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Least Common Denominator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676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Locate and discover Vertical Asympto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50292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Seek out the ever mysterious Oblique Asymptot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216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2286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Sage advice for your 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SAPS uni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589800" y="152280"/>
            <a:ext cx="2174760" cy="221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1952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new things! Exp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2514600" cy="169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00400" y="2743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 all the best ideas! (CASE—copy and steal every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65960" y="3048120"/>
            <a:ext cx="1778040" cy="213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15000" y="585324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gh a lot!  Have f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your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24280" y="4419720"/>
            <a:ext cx="1538280" cy="1609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41148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e students do most (or all) of the wor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676520" y="502920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7:15:54Z</dcterms:created>
  <dc:creator>Jefferson County Public Schools</dc:creator>
  <dc:description/>
  <dc:language>en-US</dc:language>
  <cp:lastModifiedBy>Jefferson County Public Schools</cp:lastModifiedBy>
  <dcterms:modified xsi:type="dcterms:W3CDTF">2009-04-30T17:44:41Z</dcterms:modified>
  <cp:revision>2</cp:revision>
  <dc:subject/>
  <dc:title>Slide 1</dc:title>
</cp:coreProperties>
</file>